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68E-5CE9-4B9A-B303-C123D1D5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E33-C45B-4628-A641-893D67B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E99-3AB2-42CD-9494-70ED533F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E8F-FE9B-4B28-81EE-04B25A4F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40B-C449-4E0C-8FA8-FBEAF50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786-1C2C-462B-A7E8-5652DF4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032-8D78-4EAD-9D77-9EA54BC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5CD-1448-43BD-B79B-5F5A0F03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ADE-2CBE-464D-820E-9552411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AD9-8697-471B-AC19-2BC9881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040-0FF6-40F4-A241-69F6884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0B8-EBC2-4A93-954F-E79A889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B1C-33F3-47DE-A599-2DC1A2DE1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oh 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ized Regression Weight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Group number 1 - Default model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1295280"/>
          <a:ext cx="7696080" cy="518184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yal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t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k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yal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yal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yal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KUEN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yal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2:09:18Z</dcterms:created>
  <dc:creator>Ekonomi</dc:creator>
  <dc:description/>
  <dc:language>en-US</dc:language>
  <cp:lastModifiedBy>Hewlett-Packard</cp:lastModifiedBy>
  <dcterms:modified xsi:type="dcterms:W3CDTF">2018-03-10T09:36:03Z</dcterms:modified>
  <cp:revision>4</cp:revision>
  <dc:subject/>
  <dc:title>Slide 1</dc:title>
</cp:coreProperties>
</file>